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19.png" ContentType="image/png"/>
  <Override PartName="/ppt/media/image17.wmf" ContentType="image/x-wmf"/>
  <Override PartName="/ppt/media/image16.jpeg" ContentType="image/jpeg"/>
  <Override PartName="/ppt/media/image35.wmf" ContentType="image/x-wmf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6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8B2F-F7FC-4C3D-B2E1-CAA9AE2AF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433C-A1CE-40D1-8807-94B1290DE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24A1-E3C8-4491-83C9-2D1A38847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CEB6-7584-426B-B5EB-51A25E2D5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Приложение, ссылки на литерату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9621-CA9A-4572-B997-CD9609E11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F238-B581-49EA-9227-B522BA7C5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969682-4A31-4ED9-8E02-E25E3A6E8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E41D-6F5F-429F-B0B3-BD96B832A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ED5580-AAF1-4D3C-89F4-F22D1C359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6CC9-46A4-42BC-AEF1-4F648A6E7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2B81D4-EA96-4D95-9D91-204DCFA5F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57EE-1354-48B1-829B-E35489C20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712B95-3D91-4370-8AA9-A1A27EB6D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95B8-E6E4-41A6-9A8A-C8C07DC00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FE01-845F-4AE8-8948-A984095FE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83C861-6E86-41A9-B1E6-5714F570B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9DF9-BB9C-434C-8C19-52BBA2383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A931-F89E-417D-8BB7-B84EF72A3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4FF0F1-9A92-4B43-AA85-793D7774E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844D-8AF3-4D3F-9347-D40E41ADA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20B5-F0CE-4F3E-9189-838CB054B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F0F7FD-F225-4A96-978E-A65194B71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шлитесь на проблемную ситуац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ИТЕ: Какие показатели вы выбер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е обучение персонала новому методу. Удовлетворенность клиентов.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atisfaction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компетентности. Своевременнос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90E8-71C0-48EB-9385-FC8A3CF7E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EC73-3396-4CE8-AC84-F43CD8BDF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 использованием Бережливости в прило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4413-2AD7-47FC-87A7-856671A82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D1C8-7B1D-4E50-A071-2A304B5AD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DDCD-AAA4-480C-B51A-869C8292B9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6C77-1975-4B7C-B8B3-A814BE169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D451AD-425C-49A5-B605-CE301AD1C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В. Эдвардса Деминга – одного из гигантов каче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15-А содержит все 14 принц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7BD2-3CCF-4385-A6BF-B9876B0AE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8B67-8946-42EA-8707-9D9FA3081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8F81-864F-4B30-9C9D-1C63A5CD6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BC71AF-C621-40F5-B916-4EA19D9A4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1FAD7-F7C5-4DA1-94A6-F4D789357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17529-C515-4F7A-AB5C-E66BF96A70B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6FD56C-2664-4EF8-B87D-7BD6CE02283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773843-0DBF-4AC5-9E3A-7BDAE794392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807EA7-B75B-490F-AF58-74B40179597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1FF3F2-2162-4C7C-9CAF-8AACEC68E88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636D5F-8421-4C27-BA49-E48D2CC7311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489A6E-72FB-4C2A-9155-56EE24CB5AD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3BE997-FC51-48BC-A9F6-53DA8D334ED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1E6CE9-DD25-4CE0-8284-4FFB039DB98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50E6BA-1506-43E1-9DCC-0EC7EA0EC22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E46417-6655-4CE2-BA35-09BB881BC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C6E7C-AB6E-427F-8678-2056B54387B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8D0D8B-9C77-4F77-88EC-98012F589F6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F68FFA-3070-4215-AD66-DC7A346E29D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280F75-4746-42E3-B942-8977F3A20AD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3315DF-0625-478C-812A-831BAB29930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17D586-F5AF-4010-9B1F-4EB42D4C537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B30C88-5FB6-4A3C-A00A-A0789248DF2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3F888B-9530-4905-9EE8-882DE9B465D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F5EA66-E8D8-46EC-A2CD-C42B7F986AD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A86571-6A33-4445-BBDF-D7A6B4244A5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6A0CAF-C950-4D1C-8052-BDEF3C2E41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C36B3-AAD1-4D28-8AA4-6017E34EE5E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2DF0A0-E4E5-414F-96CD-E0B3AF03D0C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34D4D-334D-4F46-A67D-9E49EC84D2B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E80A1-968C-4538-912D-2C7DED29966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DDF3E-9306-49AB-94F9-35BF6C61B83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4C930-D114-4906-904B-7CA08645370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8B335-7E9A-4B37-BDF5-7E31C554C09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B135E-EBB2-4B4B-8C5B-F70E8C42AF5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31441-D8D4-44B1-92AC-099C4AEF062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5FB7A-E807-4E8F-B58C-CAAE104FBDF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AECCB-CD03-49C8-817B-8B88F9A72A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C57C-7BA7-41B0-9B09-730BA9AEEAE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FD18C-330C-477F-BEFE-F2A8AB6347C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158B3-96F0-43E3-84DA-F8C4C3E887E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42B07-5F61-4DBA-86CE-6FED6EF1825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E69D37-A51C-4569-AEE0-D7CAEB84D23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4ED602-A4EA-49B2-B57A-5038EA9BD66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1B14F3-05F8-4FAF-BDE1-F09527C19DB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2A4E7E-8CC9-4FD6-A289-F111F253576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EB47F9-5104-4FC6-B53A-CCFC1434A92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1708C1-AC97-48E8-B2CD-18B0EDD46C5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5DE250-1437-4295-BABB-F083461338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7334-85BD-41E9-B911-FC523F75D75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B20C3B-AE24-43A4-A526-299D8F78D0C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044199-B09E-423E-B3AB-A1F744986D8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CFE231-8ECF-41B3-9D31-808E37A116C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188CDD-8E7C-479A-8A3C-60593BD1EE2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F35A9C-2D91-4ADD-8ACC-0C30CCD0EF3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F8A14-9D18-4CC5-86FF-99985A59673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8E9F87-5484-449B-9F4C-E70FDC052D0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F2BAE3-9DEF-43D6-AAD6-ABED66AB180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38C9C6-0B1E-4C48-B017-EC85525FDCA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E1878E-230B-4376-8B1E-48FDC327AB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13D3-2738-4DA2-BFD7-0FCE944580B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A79DFB-0601-44A2-8F38-0A7FC67575F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CDB833-5B69-428A-AD45-A507817CADF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6585C8-3FE6-4220-8B06-51EFCF78416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88C715-4BF7-488C-9945-991DAE58010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FCBCB2-21A7-4207-A99A-EE673BB6423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813BAC-7496-4946-90CF-51589516904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F78954-B666-4A62-A509-A0D016AA2E3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E0572-023E-44D0-A469-D41CC9C0283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FDAF0-E465-484F-AA1A-B6E541C81E2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A782F-A5CA-47F3-92FC-D56E3B152D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90A6-EB11-43B5-A015-8894D861891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840E9-8794-46BC-97CE-C61B8012D13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464BD-133D-4E73-9F8E-9A0FA7DB275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3C710-BA2A-4D4D-8AF4-16010AD667D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724E7-296E-4BA4-B71A-3A538B8A452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9EE4A-813C-4867-98BC-A524C5CD9AD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679F0-43A8-4EC4-9D90-3F96F7A2298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0C392-7C27-4113-B595-77E87180EAF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6739A-0D5A-40E8-9C3B-EB29FF3AB08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74BA7-D500-442F-9F46-B3A6AA17470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8C91E3-C81C-4028-B5D3-76EC8F5C00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7D5-C5E1-463B-BF44-A18A846ED02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7D1337-82DE-4962-850F-9D0C1797339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362760-58CA-42C5-98A2-DCB12060CB0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617C63-2543-4BBF-B484-9EBEBFADBFB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4A8C6A-7679-4ACD-A74F-809A0531CC5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3489BF-2079-41B0-BBE9-38197678AF9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7EB7A4-D747-4F1C-9C2E-7694D3C50A3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6B22D0-23F8-45AB-89A6-B639E1864F3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9FA07E-92AC-4B24-A399-AB010020E6F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B43A11-060F-49FA-96D1-7AF2791788B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D200B1-538C-49C9-A522-A363F8B0EA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A7F-1D5F-4207-A216-4E58BB30337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916CC9-D8EA-4FE7-B86C-E1EF0E177A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125E-4E3D-4F24-B651-F90EFC86CC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5E4FB-1543-4925-AE4F-9D899DE5C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9255-3DA6-457C-87F3-C6907EC7EC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416-2D34-4CC7-8132-80741BE9BB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E3E3-3008-42FE-9C17-377F9F4E31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7FE8-336A-4773-BCA5-B4CB5AFC6A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187A-BAD0-4CE5-ABDE-810A898DE6C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DB6F7-6DE6-4569-92E8-02B37A7716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8C9FD-D845-4ECF-A454-797C169488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CCC7A-6DA6-42FD-BA28-5D05D0D2E4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66B1E-7EB3-4452-82B6-F43C8691A4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97572-E1E8-419E-8FFA-5B3A0C3731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13930-333C-434F-BB2A-6E9C7C811F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68ACF-6DB3-4235-95FF-DB8C7C9E86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F65CE-E70E-457F-A2C1-EF1BFF3B49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C538A-8FD9-4C14-8DA8-26479F7B64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84CDD-8604-4B94-A17E-96E5F36B41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4676A-0729-47DA-A49D-9B4DB9E430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88DA7-83AE-4DFC-AAD8-EA79B32FDE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033FE-3822-4F0F-AE5C-7D2311530E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C10111-B4E0-4181-BD21-7FEDF939036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1F5B28-640F-4AD6-A6AA-12DB1BECCD9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6F25D5-A532-4546-8AD7-8A121AF23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184BD-FBE9-46CE-9D8D-274AFF6BF5A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6B688F-95AB-4A0C-B76E-DA8AFB8DF70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7536F4-9688-4511-A537-E2644E1CE3C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26D77C-C933-4897-9ADD-D8CB99F47D8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7A1173-60B8-4CC3-A214-6EA2C17C57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BC54F8-8836-4BDB-9530-F3DDFBB8557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1E131A-EA2F-4A11-832C-604828D3C44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E17295-347B-45E8-9BD0-319403618B5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0A37B6-D309-44BB-84D4-C682CC6C201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FADEF7-940B-4150-A06F-8EE18C2535F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ECC6C-C05C-4C2B-B96E-D2361F00E8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8E455-714A-4414-AA90-07A192B2671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EF20E-6A26-4F6C-B638-22060A6FD6C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B2A9A-F518-48A4-96D7-440D10EFFE6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86156-1DC9-4E10-BAAD-BA67DFEBB27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6D0E7-ED76-4940-9A36-48B91C604BE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F29E8-C086-4EB2-948F-1796817E604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2437D-53B8-4010-9A99-891ED4DE1F0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7FE95-ABEC-4B61-8D9D-912E9182FFC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F4568-D43B-4C77-9B94-B520E9E5F7E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2C14B-FCEC-41A1-808F-0A2EBDA4165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048E5-9D16-4203-A09A-677ACF6B0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2BA43-BF3D-4836-BD21-747EE2BBCC3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F0D2B-3D26-4377-BC3A-7D434EAB3BE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CC2D3F-DA44-4035-A54C-DBCC05A139F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1341D9-82D3-4C4C-A89D-B6E0DA07A80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71C86A-9F96-46A0-8A1D-0E721F66A7F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681E6E-D9A9-4F1D-826C-7B83044A6F8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6B12F5-6878-41B4-9DA9-48B88042F8E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CDCC24-022A-454D-8053-B52C898387A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A0F3C8-DE14-44AA-B959-7A5549825FC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147FE9-8839-4B9F-BADC-EB96DBDC450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D38167-65FA-4A78-948E-2E0B1C5A4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671B2-3A35-44BB-90E9-7C3913F7C95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560A27-AB2C-4019-AB64-27F1A2CB6DC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19442D-D0B2-4A4A-9DC5-FB817014E58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E2D099-D9E0-453F-A0BD-CDB06F1E3AD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49F25C-80DF-4B1D-B515-F527C29436B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2F9ED1-F4FF-41B1-BBE9-B17D7D57F8E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D80078-E074-49C1-A7F3-7D0208C73DC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10F7ED-91A9-4A04-A755-0891A8EB5E0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BA5FA4-CFE2-4577-BBE1-BF75D41A22B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D707D9-352A-4335-8AC3-678C152B708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F304DD-CEFE-42F2-91D3-8D4F22A8F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67720-4E51-4BEB-9CFF-117AB31008B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B8F868-978C-41FC-93D6-726A9A253EF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7ABD50-6252-4A12-BB97-EE0FFEA61A1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5A6435-C87F-4C51-86E3-40A3AEB0AC2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A54503-9A3B-455C-ABB0-C01DF1C9F11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DEE003-5BBA-45DB-8F42-1A9AA57E460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4A87D-C92D-42A7-9897-3754F95AE9D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99390-38A1-4661-AA8C-62F41AE21AA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A7779-1378-48E9-8D9E-2A5B768395D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5DB12-ED42-42F7-B143-3A2367A5CB3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78EBC-E1DC-450B-8377-DF3EBC073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8EF4C-7365-4D2A-8812-3D452EDC7D6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35D8F-7C07-48D1-AA61-BD8073F3AC5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867F7-C64C-4FE6-85A0-2BC33EF5785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521A9-6D66-4FB0-91EC-E48269515B0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B6AF8-BCF5-4B69-86ED-956B0B2639A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BE718-E80D-4835-9565-B8FBAF87491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69E5F-EA87-4262-979A-1F5A06E1DFD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61348-AFAE-4A57-B7CB-A7FB294B5E0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C324A1-8B5E-4862-A35A-279A9544B24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2AA71A-B280-41D6-BE4A-2ADE7B7B81E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76C4AC-A471-4350-A040-F141CD390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1716-3021-4012-974C-7A94FDE33F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670B-B06D-488F-ABA9-239A29D9FB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6CEF-8D08-4908-A1D8-49357B603E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ftr" idx="2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2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A3CF-D9AC-44DD-A472-97940CBA36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ftr" idx="2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E6BD-E4B7-4289-97E9-8EC1C1B2E7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2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35B9-BE5F-4E6D-8BBB-82957A7E68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2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2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FECE-7590-4B83-86B6-00715C6732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2BAF-5CFE-40A6-9194-F5B5421D21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CA73-EB8A-4916-9B32-99717597EF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0AD2-D69C-4F6D-B95F-5B79430587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7AD3-A6D4-418E-9EC2-92101E7F03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740D-F538-4479-B70B-5F97AA212B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D659-B26F-4F1F-A306-36B871ED67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6B11-958E-4740-9AE1-5765329114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1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1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C41F-4657-4238-8A42-4556D147EB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6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Text Box 16"/>
          <p:cNvSpPr/>
          <p:nvPr/>
        </p:nvSpPr>
        <p:spPr>
          <a:xfrm>
            <a:off x="3200400" y="220968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лучшение 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991D-D482-45A6-A14E-35ADB84D28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1219320" y="3276720"/>
            <a:ext cx="3276360" cy="304776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тимизаци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стран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ремен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 улучшения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транственн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рганизации процесс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457200" y="1182600"/>
            <a:ext cx="426708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Content Placeholder 106514"/>
          <p:cNvGrpSpPr/>
          <p:nvPr/>
        </p:nvGrpSpPr>
        <p:grpSpPr>
          <a:xfrm>
            <a:off x="2438280" y="1822320"/>
            <a:ext cx="4876560" cy="3206520"/>
            <a:chOff x="2438280" y="1822320"/>
            <a:chExt cx="4876560" cy="3206520"/>
          </a:xfrm>
        </p:grpSpPr>
        <p:sp>
          <p:nvSpPr>
            <p:cNvPr id="935" name="_s3076"/>
            <p:cNvSpPr/>
            <p:nvPr/>
          </p:nvSpPr>
          <p:spPr>
            <a:xfrm>
              <a:off x="3218400" y="1822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_s3077"/>
            <p:cNvSpPr/>
            <p:nvPr/>
          </p:nvSpPr>
          <p:spPr>
            <a:xfrm rot="5400000">
              <a:off x="4566960" y="176760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_s3078"/>
            <p:cNvSpPr/>
            <p:nvPr/>
          </p:nvSpPr>
          <p:spPr>
            <a:xfrm rot="10800000">
              <a:off x="3218400" y="2848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_s3079"/>
            <p:cNvSpPr/>
            <p:nvPr/>
          </p:nvSpPr>
          <p:spPr>
            <a:xfrm rot="16200000">
              <a:off x="3006000" y="176796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_s3080"/>
            <p:cNvSpPr/>
            <p:nvPr/>
          </p:nvSpPr>
          <p:spPr>
            <a:xfrm>
              <a:off x="5759640" y="20224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_s3081"/>
            <p:cNvSpPr/>
            <p:nvPr/>
          </p:nvSpPr>
          <p:spPr>
            <a:xfrm>
              <a:off x="2746440" y="40078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_s3082"/>
            <p:cNvSpPr/>
            <p:nvPr/>
          </p:nvSpPr>
          <p:spPr>
            <a:xfrm>
              <a:off x="2742480" y="202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_s3083"/>
            <p:cNvSpPr/>
            <p:nvPr/>
          </p:nvSpPr>
          <p:spPr>
            <a:xfrm>
              <a:off x="5761440" y="400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Text Box 29"/>
          <p:cNvSpPr/>
          <p:nvPr/>
        </p:nvSpPr>
        <p:spPr>
          <a:xfrm>
            <a:off x="45720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42DE-73A0-4D2E-85FA-194A7FB95A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94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ути передвижения лаборанта во время выполнения работы при культивировании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До «Бережливости»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осле «Бережлив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533160" y="15235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4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  <a:ea typeface="Verdana"/>
              </a:rPr>
              <a:t>Формальная структура планирования проектов для внедрения изменений и улучшений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6277-5841-48B8-9B78-5127E03684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9" descr="six-sigma"/>
          <p:cNvPicPr/>
          <p:nvPr/>
        </p:nvPicPr>
        <p:blipFill>
          <a:blip r:embed="rId1"/>
          <a:stretch/>
        </p:blipFill>
        <p:spPr>
          <a:xfrm>
            <a:off x="4400640" y="4191120"/>
            <a:ext cx="2990880" cy="2000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54" name="Text Box 29"/>
          <p:cNvSpPr/>
          <p:nvPr/>
        </p:nvSpPr>
        <p:spPr>
          <a:xfrm>
            <a:off x="45720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0EEB-2DA8-4709-9BCC-1F53A5A79B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в «Шести сигмах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ы организованы так, чтобы помочь  в принятии решений для непрерывного улучш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преде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зм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ализиру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лучш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743200"/>
            <a:ext cx="3570120" cy="3581280"/>
          </a:xfrm>
          <a:prstGeom prst="rect">
            <a:avLst/>
          </a:prstGeom>
          <a:ln w="0">
            <a:noFill/>
          </a:ln>
        </p:spPr>
      </p:pic>
      <p:sp>
        <p:nvSpPr>
          <p:cNvPr id="960" name="AutoShape 6"/>
          <p:cNvSpPr/>
          <p:nvPr/>
        </p:nvSpPr>
        <p:spPr>
          <a:xfrm rot="16863600">
            <a:off x="3222720" y="3022200"/>
            <a:ext cx="4343400" cy="213372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720"/>
              <a:gd name="textAreaBottom" fmla="*/ 18478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1"/>
          <p:cNvSpPr/>
          <p:nvPr/>
        </p:nvSpPr>
        <p:spPr>
          <a:xfrm>
            <a:off x="6381720" y="3429000"/>
            <a:ext cx="1314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8"/>
          <p:cNvSpPr/>
          <p:nvPr/>
        </p:nvSpPr>
        <p:spPr>
          <a:xfrm>
            <a:off x="7237080" y="4038480"/>
            <a:ext cx="1392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пре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9"/>
          <p:cNvSpPr/>
          <p:nvPr/>
        </p:nvSpPr>
        <p:spPr>
          <a:xfrm>
            <a:off x="7130880" y="4964040"/>
            <a:ext cx="1479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Изм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10"/>
          <p:cNvSpPr/>
          <p:nvPr/>
        </p:nvSpPr>
        <p:spPr>
          <a:xfrm>
            <a:off x="5486400" y="4979880"/>
            <a:ext cx="1790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нализир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11"/>
          <p:cNvSpPr/>
          <p:nvPr/>
        </p:nvSpPr>
        <p:spPr>
          <a:xfrm>
            <a:off x="5486400" y="3973680"/>
            <a:ext cx="1523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луч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FCAF-D49D-43E2-82BC-8CC5CBD3EE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3160" y="464760"/>
            <a:ext cx="601956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Что есть качество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609480" y="11304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Качество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брокачеств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тонч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».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4290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5"/>
          <p:cNvSpPr/>
          <p:nvPr/>
        </p:nvSpPr>
        <p:spPr>
          <a:xfrm>
            <a:off x="2590920" y="3809880"/>
            <a:ext cx="5029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ыре основных принципа управления кач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0267-EFA1-4220-8564-E224E3E577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пределение показателя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становленный критерий, используемый для определения того, насколько хорошо организация выполняет запросы и соответствует ожиданиям по проведению работы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9001: 2000 (5.4.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; 8.4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15189:200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(4.12.4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78F5-E05F-415B-A836-8C9F29D2B6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5943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аким образом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…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дают информацию об эффективности рабо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являют проблемные участ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участки, которые необходимо дополнительно изуч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едят за динамикой изменен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068F-E891-4AE4-AAE5-F9340E2324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 оценки работ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80520" y="1174320"/>
            <a:ext cx="853452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лучше меньше показателей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ивяжите к факторам, требующимся для успех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нованы на потребностях клиентов и других заинтересованных сторо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чните с руководства и двигайтесь вни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меняйте в соответствии с внешними переменами и изменениями в страте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станавливайте цели и задачи на основе исследований, а не на произвольных оценк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арк Грэм Брау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8519-6B36-4A71-B15D-518EDB7A30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осемь шагов на пути разработки работающих показа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62120" y="1568160"/>
            <a:ext cx="441936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л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етод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ел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нтерпре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гранич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ставление информ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действ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завер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8" name="Picture 4" descr="j0427771"/>
          <p:cNvPicPr/>
          <p:nvPr/>
        </p:nvPicPr>
        <p:blipFill>
          <a:blip r:embed="rId1"/>
          <a:stretch/>
        </p:blipFill>
        <p:spPr>
          <a:xfrm>
            <a:off x="5192640" y="1676520"/>
            <a:ext cx="357048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7FE7-601B-4149-8F56-F1AE863BA5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БОЛЬШОЙ СЕКРЕТ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анды по показателям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4572000" cy="31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влеките народ, который делает работу, потому что они знают, что они делаю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213372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E30D-2C63-420F-B435-DE7491FEA3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533520" y="144108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ередать историю улучшения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значение улучшения процессов для поддержания качест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потребность в средствах контроля лабораторных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Rectangle 2"/>
          <p:cNvSpPr/>
          <p:nvPr/>
        </p:nvSpPr>
        <p:spPr>
          <a:xfrm>
            <a:off x="457200" y="43704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2A45-A990-48CF-B6BF-388E83AED6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4902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арактеристик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997" name="Diagram 25"/>
          <p:cNvGrpSpPr/>
          <p:nvPr/>
        </p:nvGrpSpPr>
        <p:grpSpPr>
          <a:xfrm>
            <a:off x="457200" y="1143000"/>
            <a:ext cx="8457840" cy="5159160"/>
            <a:chOff x="457200" y="1143000"/>
            <a:chExt cx="8457840" cy="5159160"/>
          </a:xfrm>
        </p:grpSpPr>
        <p:sp>
          <p:nvSpPr>
            <p:cNvPr id="998" name="AutoShape 26"/>
            <p:cNvSpPr/>
            <p:nvPr/>
          </p:nvSpPr>
          <p:spPr>
            <a:xfrm>
              <a:off x="457200" y="1143000"/>
              <a:ext cx="8457840" cy="5159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_s4100"/>
            <p:cNvSpPr/>
            <p:nvPr/>
          </p:nvSpPr>
          <p:spPr>
            <a:xfrm flipH="1" flipV="1">
              <a:off x="2941920" y="2920320"/>
              <a:ext cx="798120" cy="39780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_s4101"/>
            <p:cNvSpPr/>
            <p:nvPr/>
          </p:nvSpPr>
          <p:spPr>
            <a:xfrm>
              <a:off x="837720" y="1524240"/>
              <a:ext cx="2890440" cy="1523880"/>
            </a:xfrm>
            <a:prstGeom prst="ellipse">
              <a:avLst/>
            </a:prstGeom>
            <a:solidFill>
              <a:srgbClr val="8989e5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ривяз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о вре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раткосрочные 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долгосроч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_s4102"/>
            <p:cNvSpPr/>
            <p:nvPr/>
          </p:nvSpPr>
          <p:spPr>
            <a:xfrm flipH="1">
              <a:off x="2552760" y="3863160"/>
              <a:ext cx="989280" cy="1465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_s4103"/>
            <p:cNvSpPr/>
            <p:nvPr/>
          </p:nvSpPr>
          <p:spPr>
            <a:xfrm>
              <a:off x="609120" y="3200400"/>
              <a:ext cx="2363040" cy="1294200"/>
            </a:xfrm>
            <a:prstGeom prst="ellipse">
              <a:avLst/>
            </a:prstGeom>
            <a:solidFill>
              <a:srgbClr val="7a7acc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хватываю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все уров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_s4104"/>
            <p:cNvSpPr/>
            <p:nvPr/>
          </p:nvSpPr>
          <p:spPr>
            <a:xfrm flipH="1">
              <a:off x="3047040" y="4344840"/>
              <a:ext cx="681120" cy="9367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_s4105"/>
            <p:cNvSpPr/>
            <p:nvPr/>
          </p:nvSpPr>
          <p:spPr>
            <a:xfrm>
              <a:off x="837720" y="4724280"/>
              <a:ext cx="2896200" cy="1287000"/>
            </a:xfrm>
            <a:prstGeom prst="ellipse">
              <a:avLst/>
            </a:prstGeom>
            <a:solidFill>
              <a:srgbClr val="8282d9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балансиров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полный цик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_s4106"/>
            <p:cNvSpPr/>
            <p:nvPr/>
          </p:nvSpPr>
          <p:spPr>
            <a:xfrm>
              <a:off x="4978440" y="4300200"/>
              <a:ext cx="532440" cy="75528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_s4108"/>
            <p:cNvSpPr/>
            <p:nvPr/>
          </p:nvSpPr>
          <p:spPr>
            <a:xfrm>
              <a:off x="5524920" y="3863160"/>
              <a:ext cx="992880" cy="14256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_s4109"/>
            <p:cNvSpPr/>
            <p:nvPr/>
          </p:nvSpPr>
          <p:spPr>
            <a:xfrm>
              <a:off x="5854320" y="3809520"/>
              <a:ext cx="2984400" cy="1294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нтерпретиру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конкр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_s4110"/>
            <p:cNvSpPr/>
            <p:nvPr/>
          </p:nvSpPr>
          <p:spPr>
            <a:xfrm flipV="1">
              <a:off x="5326920" y="2744640"/>
              <a:ext cx="1120680" cy="57384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_s4111"/>
            <p:cNvSpPr/>
            <p:nvPr/>
          </p:nvSpPr>
          <p:spPr>
            <a:xfrm>
              <a:off x="6079320" y="1903680"/>
              <a:ext cx="2488680" cy="1288800"/>
            </a:xfrm>
            <a:prstGeom prst="ellips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Доступ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четко очерче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_s4112"/>
            <p:cNvSpPr/>
            <p:nvPr/>
          </p:nvSpPr>
          <p:spPr>
            <a:xfrm flipV="1">
              <a:off x="4533840" y="2477520"/>
              <a:ext cx="468720" cy="6001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_s4113"/>
            <p:cNvSpPr/>
            <p:nvPr/>
          </p:nvSpPr>
          <p:spPr>
            <a:xfrm>
              <a:off x="3886200" y="1218240"/>
              <a:ext cx="2193120" cy="1290960"/>
            </a:xfrm>
            <a:prstGeom prst="ellips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змеря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бъек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_s4114"/>
            <p:cNvSpPr/>
            <p:nvPr/>
          </p:nvSpPr>
          <p:spPr>
            <a:xfrm>
              <a:off x="3429360" y="2742840"/>
              <a:ext cx="2513520" cy="20574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Хороши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показатели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качества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_s4107"/>
            <p:cNvSpPr/>
            <p:nvPr/>
          </p:nvSpPr>
          <p:spPr>
            <a:xfrm>
              <a:off x="4238280" y="4800600"/>
              <a:ext cx="2391480" cy="1425600"/>
            </a:xfrm>
            <a:prstGeom prst="ellipse">
              <a:avLst/>
            </a:prstGeom>
            <a:solidFill>
              <a:srgbClr val="8d8deb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ук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 действ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риенти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на рабо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239F-E523-4DFB-9326-23C7043C37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5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дведение итог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04920" y="1387440"/>
            <a:ext cx="85341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«Многие организации тратят тысячи часов на сбор и интерпретацию данных. Однако большая часть этого времени оказывается потраченной впустую, потому что анализируются неправильные измерения, что ведет к принятию неправильных решений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990720" y="4648320"/>
            <a:ext cx="777240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рк Грэм Брау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пользование правильных метрик для достижения высокого класса работы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2309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пьютерные показатели бессмыслиц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EE08-DA11-4D0F-B677-E4CF17D8CA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"/>
          <p:cNvSpPr/>
          <p:nvPr/>
        </p:nvSpPr>
        <p:spPr>
          <a:xfrm>
            <a:off x="2721960" y="1839960"/>
            <a:ext cx="42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а моч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"/>
          <p:cNvSpPr/>
          <p:nvPr/>
        </p:nvSpPr>
        <p:spPr>
          <a:xfrm>
            <a:off x="2590920" y="2322360"/>
            <a:ext cx="48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3062160" y="2398680"/>
            <a:ext cx="394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тнес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ча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фон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мину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7094160" y="20080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8"/>
          <p:cNvSpPr/>
          <p:nvPr/>
        </p:nvSpPr>
        <p:spPr>
          <a:xfrm>
            <a:off x="4724280" y="369720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лько потому что компьютер может что</a:t>
            </a:r>
            <a:r>
              <a:rPr b="0" i="1" lang="ru-RU" sz="2800" spc="-1" strike="noStrike">
                <a:solidFill>
                  <a:srgbClr val="ff3300"/>
                </a:solidFill>
                <a:latin typeface="Verdana"/>
              </a:rPr>
              <a:t>-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 посчит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,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 это не значит, что это стоит дел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9" descr="j0290897[1]"/>
          <p:cNvPicPr/>
          <p:nvPr/>
        </p:nvPicPr>
        <p:blipFill>
          <a:blip r:embed="rId1"/>
          <a:stretch/>
        </p:blipFill>
        <p:spPr>
          <a:xfrm rot="20365800">
            <a:off x="609120" y="2398320"/>
            <a:ext cx="396252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Примеры показателей качеств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029" name=""/>
          <p:cNvGraphicFramePr/>
          <p:nvPr/>
        </p:nvGraphicFramePr>
        <p:xfrm>
          <a:off x="380880" y="1160640"/>
          <a:ext cx="8458200" cy="5011560"/>
        </p:xfrm>
        <a:graphic>
          <a:graphicData uri="http://schemas.openxmlformats.org/drawingml/2006/table">
            <a:tbl>
              <a:tblPr/>
              <a:tblGrid>
                <a:gridCol w="2076480"/>
                <a:gridCol w="1781280"/>
                <a:gridCol w="2595600"/>
                <a:gridCol w="2004840"/>
              </a:tblGrid>
              <a:tr h="132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сследование</a:t>
                      </a: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с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35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 соответствие запроса на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дентификации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правильность анализов, выполненных рядом с пациен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отчеты о критических значениях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время обо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нформации о про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орреляция цитологии и биопсии шейки ма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мониторинг диабета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крининг гиперлипидем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контаминация культур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74A4-339F-4370-B950-CD85EE177A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Object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772400" cy="4475160"/>
          </a:xfrm>
          <a:prstGeom prst="rect">
            <a:avLst/>
          </a:prstGeom>
          <a:ln w="0">
            <a:noFill/>
          </a:ln>
        </p:spPr>
      </p:pic>
      <p:sp>
        <p:nvSpPr>
          <p:cNvPr id="1033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5A95-8E99-4073-A9D6-69B024436A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9"/>
          <p:cNvSpPr/>
          <p:nvPr/>
        </p:nvSpPr>
        <p:spPr>
          <a:xfrm>
            <a:off x="533520" y="533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ычно отслеживаемые показател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%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1"/>
          <p:cNvSpPr/>
          <p:nvPr/>
        </p:nvSpPr>
        <p:spPr>
          <a:xfrm>
            <a:off x="685800" y="5562720"/>
            <a:ext cx="7772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сылк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Hilborne L. Developing a core set of laboratory based quality indicators.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QLM Conference; 2005 Apr 29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работка основного набора показателей качества для лаборатории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CFA1-F782-4717-A69C-A7DB892223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076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Осторожн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еоретическ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, привязанные к результатам лечения пациент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являютс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иболее информативны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о их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уднее всего измеря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ишком много переме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большое количество данны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собирать в течение длительного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838080" y="472428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dicare Quality Improvement, Bad Apples or Bad Systems?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ение качества системы медицинского обслуживания пенсионеров, плохие яблоки или плохая система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Oval 2"/>
          <p:cNvSpPr/>
          <p:nvPr/>
        </p:nvSpPr>
        <p:spPr>
          <a:xfrm>
            <a:off x="4952880" y="160020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Diagram 3"/>
          <p:cNvGrpSpPr/>
          <p:nvPr/>
        </p:nvGrpSpPr>
        <p:grpSpPr>
          <a:xfrm>
            <a:off x="4674240" y="1371600"/>
            <a:ext cx="4465800" cy="4572000"/>
            <a:chOff x="4674240" y="1371600"/>
            <a:chExt cx="4465800" cy="4572000"/>
          </a:xfrm>
        </p:grpSpPr>
        <p:sp>
          <p:nvSpPr>
            <p:cNvPr id="1045" name="AutoShape 4"/>
            <p:cNvSpPr/>
            <p:nvPr/>
          </p:nvSpPr>
          <p:spPr>
            <a:xfrm>
              <a:off x="4876920" y="137160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_s5124"/>
            <p:cNvSpPr/>
            <p:nvPr/>
          </p:nvSpPr>
          <p:spPr>
            <a:xfrm>
              <a:off x="5595840" y="1714680"/>
              <a:ext cx="2621160" cy="2954160"/>
            </a:xfrm>
            <a:custGeom>
              <a:avLst/>
              <a:gdLst>
                <a:gd name="textAreaLeft" fmla="*/ 384120 w 2621160"/>
                <a:gd name="textAreaRight" fmla="*/ 2237040 w 2621160"/>
                <a:gd name="textAreaTop" fmla="*/ 433440 h 2954160"/>
                <a:gd name="textAreaBottom" fmla="*/ 2520720 h 295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_s5125"/>
            <p:cNvSpPr/>
            <p:nvPr/>
          </p:nvSpPr>
          <p:spPr>
            <a:xfrm rot="7200000">
              <a:off x="5788800" y="257868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_s5126"/>
            <p:cNvSpPr/>
            <p:nvPr/>
          </p:nvSpPr>
          <p:spPr>
            <a:xfrm rot="14400000">
              <a:off x="5070960" y="258156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_s5127"/>
            <p:cNvSpPr/>
            <p:nvPr/>
          </p:nvSpPr>
          <p:spPr>
            <a:xfrm>
              <a:off x="76248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_s5128"/>
            <p:cNvSpPr/>
            <p:nvPr/>
          </p:nvSpPr>
          <p:spPr>
            <a:xfrm>
              <a:off x="6380280" y="468324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_s5129"/>
            <p:cNvSpPr/>
            <p:nvPr/>
          </p:nvSpPr>
          <p:spPr>
            <a:xfrm>
              <a:off x="51354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13"/>
            <p:cNvSpPr/>
            <p:nvPr/>
          </p:nvSpPr>
          <p:spPr>
            <a:xfrm>
              <a:off x="5029200" y="253368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Непрерывно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улучше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3F5F-AA6B-4CFD-A5CE-8CAF9AE987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элементы внедрени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Rectangle 12"/>
          <p:cNvSpPr/>
          <p:nvPr/>
        </p:nvSpPr>
        <p:spPr>
          <a:xfrm>
            <a:off x="457200" y="129528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14"/>
          <p:cNvSpPr/>
          <p:nvPr/>
        </p:nvSpPr>
        <p:spPr>
          <a:xfrm>
            <a:off x="152280" y="1371600"/>
            <a:ext cx="4800600" cy="4495680"/>
          </a:xfrm>
          <a:prstGeom prst="rightArrowCallout">
            <a:avLst>
              <a:gd name="adj1" fmla="val 25002"/>
              <a:gd name="adj2" fmla="val 25000"/>
              <a:gd name="adj3" fmla="val 17797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5"/>
          <p:cNvSpPr/>
          <p:nvPr/>
        </p:nvSpPr>
        <p:spPr>
          <a:xfrm>
            <a:off x="152280" y="1795320"/>
            <a:ext cx="34290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ривер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Лиде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Вовлеч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ланирова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BAE5-58F4-4E51-B864-91AB2BE54A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tebulb"/>
          <p:cNvSpPr/>
          <p:nvPr/>
        </p:nvSpPr>
        <p:spPr>
          <a:xfrm>
            <a:off x="4952880" y="838080"/>
            <a:ext cx="4038840" cy="5257800"/>
          </a:xfrm>
          <a:custGeom>
            <a:avLst/>
            <a:gdLst>
              <a:gd name="textAreaLeft" fmla="*/ 664920 w 4038840"/>
              <a:gd name="textAreaRight" fmla="*/ 3417480 w 4038840"/>
              <a:gd name="textAreaTop" fmla="*/ 532440 h 5257800"/>
              <a:gd name="textAreaBottom" fmla="*/ 2259360 h 525780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0" y="1219320"/>
            <a:ext cx="53341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читывайт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орневые причины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правление ри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бои, потенциальные сбои и ситуации на грани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тоимость, выигрыш и приор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на без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9"/>
          <p:cNvSpPr/>
          <p:nvPr/>
        </p:nvSpPr>
        <p:spPr>
          <a:xfrm>
            <a:off x="624852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шибк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0"/>
          <p:cNvSpPr/>
          <p:nvPr/>
        </p:nvSpPr>
        <p:spPr>
          <a:xfrm>
            <a:off x="5334120" y="1523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бо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13"/>
          <p:cNvSpPr/>
          <p:nvPr/>
        </p:nvSpPr>
        <p:spPr>
          <a:xfrm>
            <a:off x="6858000" y="2443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игры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4"/>
          <p:cNvSpPr/>
          <p:nvPr/>
        </p:nvSpPr>
        <p:spPr>
          <a:xfrm>
            <a:off x="6400800" y="1828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оритет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350F-8189-41B8-8B45-85EC69922B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91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-360" y="1352520"/>
            <a:ext cx="6172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ет благоприятную среду для улучш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ткрытос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каждого могут быть ценные иде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ерженност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улучшения будут иметь мес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мож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участв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589A-0CF0-4270-955F-E88CF0880A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14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аст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не всегда знает, чт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наю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лают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стоянного улучшения требу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идер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коман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33AE-5D07-4708-B8CC-A859F5085A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3200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162080"/>
            <a:ext cx="723888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 внедрили в лаборатории новый анализ на СД4. Ваши сотрудники прошли обучение и уверенно выполняют эти анализы. Метод был проверен, отчеты с результатами выдаются, и «кажется», что анализ работает 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457200" y="4581360"/>
            <a:ext cx="84582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вы можете убедиться, что анализ хорошо работает в настоящем и будет так же хорошо работать в будущ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D9B7-23E6-4F9C-BC65-A3576FBCE0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Text Box 7"/>
          <p:cNvSpPr/>
          <p:nvPr/>
        </p:nvSpPr>
        <p:spPr>
          <a:xfrm>
            <a:off x="609480" y="1390680"/>
            <a:ext cx="7543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ин проект каждые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6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сяцев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график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17"/>
          <p:cNvGrpSpPr/>
          <p:nvPr/>
        </p:nvGrpSpPr>
        <p:grpSpPr>
          <a:xfrm>
            <a:off x="228600" y="3063960"/>
            <a:ext cx="8686800" cy="3184560"/>
            <a:chOff x="228600" y="3063960"/>
            <a:chExt cx="8686800" cy="3184560"/>
          </a:xfrm>
        </p:grpSpPr>
        <p:pic>
          <p:nvPicPr>
            <p:cNvPr id="1085" name="Picture 10" descr="gantt-process-improvement"/>
            <p:cNvPicPr/>
            <p:nvPr/>
          </p:nvPicPr>
          <p:blipFill>
            <a:blip r:embed="rId1"/>
            <a:stretch/>
          </p:blipFill>
          <p:spPr>
            <a:xfrm>
              <a:off x="228600" y="3063960"/>
              <a:ext cx="868680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Text Box 11"/>
            <p:cNvSpPr/>
            <p:nvPr/>
          </p:nvSpPr>
          <p:spPr>
            <a:xfrm>
              <a:off x="228600" y="3505320"/>
              <a:ext cx="3505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ид раб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13"/>
            <p:cNvSpPr/>
            <p:nvPr/>
          </p:nvSpPr>
          <p:spPr>
            <a:xfrm>
              <a:off x="304920" y="443088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. Сбор образцов – гематолог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4"/>
            <p:cNvSpPr/>
            <p:nvPr/>
          </p:nvSpPr>
          <p:spPr>
            <a:xfrm>
              <a:off x="304920" y="4811760"/>
              <a:ext cx="327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. Время оборота ИФ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5"/>
            <p:cNvSpPr/>
            <p:nvPr/>
          </p:nvSpPr>
          <p:spPr>
            <a:xfrm>
              <a:off x="304920" y="5268960"/>
              <a:ext cx="4495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. Жалобы врачей – мазки на КУБ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6"/>
            <p:cNvSpPr/>
            <p:nvPr/>
          </p:nvSpPr>
          <p:spPr>
            <a:xfrm>
              <a:off x="304920" y="5638680"/>
              <a:ext cx="5922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. Контроль качества химического оборудован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A054-EF55-4902-B76B-069DBE29D9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6"/>
          <p:cNvSpPr/>
          <p:nvPr/>
        </p:nvSpPr>
        <p:spPr>
          <a:xfrm>
            <a:off x="457200" y="1041480"/>
            <a:ext cx="822960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ействуйте командой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ле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трудников-исполнителе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3241-4FE3-4167-9E3B-AB0572A5BD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1101" name="Text Box 5"/>
          <p:cNvSpPr/>
          <p:nvPr/>
        </p:nvSpPr>
        <p:spPr>
          <a:xfrm>
            <a:off x="1371600" y="12193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спользуйте инструменты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9"/>
          <p:cNvSpPr/>
          <p:nvPr/>
        </p:nvSpPr>
        <p:spPr>
          <a:xfrm>
            <a:off x="533520" y="2536920"/>
            <a:ext cx="38098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318F-D8BF-4B87-AF81-79AEE06E37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13" descr="manuals"/>
          <p:cNvPicPr/>
          <p:nvPr/>
        </p:nvPicPr>
        <p:blipFill>
          <a:blip r:embed="rId1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1107" name="Text Box 5"/>
          <p:cNvSpPr/>
          <p:nvPr/>
        </p:nvSpPr>
        <p:spPr>
          <a:xfrm>
            <a:off x="550800" y="1112760"/>
            <a:ext cx="767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равляйте и предупреждайте неправильное выполнение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10" descr=""/>
          <p:cNvPicPr/>
          <p:nvPr/>
        </p:nvPicPr>
        <p:blipFill>
          <a:blip r:embed="rId2"/>
          <a:srcRect l="16994" t="4707" r="0" b="14122"/>
          <a:stretch/>
        </p:blipFill>
        <p:spPr>
          <a:xfrm>
            <a:off x="609480" y="194472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1110" name="AutoShape 12"/>
          <p:cNvSpPr/>
          <p:nvPr/>
        </p:nvSpPr>
        <p:spPr>
          <a:xfrm>
            <a:off x="4038480" y="1905120"/>
            <a:ext cx="2819520" cy="2057400"/>
          </a:xfrm>
          <a:custGeom>
            <a:avLst/>
            <a:gdLst>
              <a:gd name="textAreaLeft" fmla="*/ 440280 w 2819520"/>
              <a:gd name="textAreaRight" fmla="*/ 2467080 w 281952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20"/>
          <p:cNvSpPr/>
          <p:nvPr/>
        </p:nvSpPr>
        <p:spPr>
          <a:xfrm>
            <a:off x="2514600" y="274320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5"/>
          <p:cNvSpPr/>
          <p:nvPr/>
        </p:nvSpPr>
        <p:spPr>
          <a:xfrm>
            <a:off x="533520" y="4724280"/>
            <a:ext cx="4038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итывайтесь о результатах руководству и сотрудни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56840" y="1218960"/>
            <a:ext cx="8458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изучения используйте доступную информацию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ложения и жалобы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ошибки, выявле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программой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управлению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нештатными ситуация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лем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лен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утренними аудит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4668-2D8F-4056-9D0C-8172AD952B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9" descr="6216_thumb"/>
          <p:cNvPicPr/>
          <p:nvPr/>
        </p:nvPicPr>
        <p:blipFill>
          <a:blip r:embed="rId1"/>
          <a:stretch/>
        </p:blipFill>
        <p:spPr>
          <a:xfrm>
            <a:off x="6095880" y="2895480"/>
            <a:ext cx="2743200" cy="1782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0" descr="j0409007"/>
          <p:cNvPicPr/>
          <p:nvPr/>
        </p:nvPicPr>
        <p:blipFill>
          <a:blip r:embed="rId2"/>
          <a:stretch/>
        </p:blipFill>
        <p:spPr>
          <a:xfrm>
            <a:off x="5611680" y="3772080"/>
            <a:ext cx="1779840" cy="2666880"/>
          </a:xfrm>
          <a:prstGeom prst="rect">
            <a:avLst/>
          </a:prstGeom>
          <a:ln w="0">
            <a:noFill/>
          </a:ln>
        </p:spPr>
      </p:pic>
      <p:sp>
        <p:nvSpPr>
          <p:cNvPr id="1119" name="WordArt 11"/>
          <p:cNvSpPr txBox="1"/>
          <p:nvPr/>
        </p:nvSpPr>
        <p:spPr>
          <a:xfrm>
            <a:off x="6095880" y="5562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28600" y="1219320"/>
            <a:ext cx="868680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возможности,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планируйте исследование так, чтобы результаты были статистически обработаны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F2A0-A045-48D8-A627-BD5C935555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Group 3"/>
          <p:cNvGrpSpPr/>
          <p:nvPr/>
        </p:nvGrpSpPr>
        <p:grpSpPr>
          <a:xfrm>
            <a:off x="380880" y="2209680"/>
            <a:ext cx="8686800" cy="4058280"/>
            <a:chOff x="380880" y="2209680"/>
            <a:chExt cx="8686800" cy="4058280"/>
          </a:xfrm>
        </p:grpSpPr>
        <p:grpSp>
          <p:nvGrpSpPr>
            <p:cNvPr id="1125" name="Group 9"/>
            <p:cNvGrpSpPr/>
            <p:nvPr/>
          </p:nvGrpSpPr>
          <p:grpSpPr>
            <a:xfrm>
              <a:off x="380880" y="2209680"/>
              <a:ext cx="8686800" cy="4058280"/>
              <a:chOff x="380880" y="2209680"/>
              <a:chExt cx="8686800" cy="4058280"/>
            </a:xfrm>
          </p:grpSpPr>
          <p:pic>
            <p:nvPicPr>
              <p:cNvPr id="1126" name="Picture 6" descr="lean_6_pre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2209680"/>
                <a:ext cx="2959200" cy="297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Picture 7" descr="lean_7_post"/>
              <p:cNvPicPr/>
              <p:nvPr/>
            </p:nvPicPr>
            <p:blipFill>
              <a:blip r:embed="rId2"/>
              <a:stretch/>
            </p:blipFill>
            <p:spPr>
              <a:xfrm>
                <a:off x="5257800" y="2286000"/>
                <a:ext cx="2971800" cy="29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Rectangle 8"/>
              <p:cNvSpPr/>
              <p:nvPr/>
            </p:nvSpPr>
            <p:spPr>
              <a:xfrm>
                <a:off x="380880" y="5200560"/>
                <a:ext cx="4267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ДО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8"/>
              <p:cNvSpPr/>
              <p:nvPr/>
            </p:nvSpPr>
            <p:spPr>
              <a:xfrm>
                <a:off x="4570560" y="5192640"/>
                <a:ext cx="44971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ПОСЛЕ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TextBox 4"/>
            <p:cNvSpPr/>
            <p:nvPr/>
          </p:nvSpPr>
          <p:spPr>
            <a:xfrm>
              <a:off x="3047760" y="4284000"/>
              <a:ext cx="30456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Box 14"/>
            <p:cNvSpPr/>
            <p:nvPr/>
          </p:nvSpPr>
          <p:spPr>
            <a:xfrm>
              <a:off x="6553080" y="4359960"/>
              <a:ext cx="38088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Box 15"/>
            <p:cNvSpPr/>
            <p:nvPr/>
          </p:nvSpPr>
          <p:spPr>
            <a:xfrm>
              <a:off x="7391520" y="3401640"/>
              <a:ext cx="380880" cy="28728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Box 16"/>
            <p:cNvSpPr/>
            <p:nvPr/>
          </p:nvSpPr>
          <p:spPr>
            <a:xfrm>
              <a:off x="2087640" y="2872080"/>
              <a:ext cx="252000" cy="25200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Box 17"/>
            <p:cNvSpPr/>
            <p:nvPr/>
          </p:nvSpPr>
          <p:spPr>
            <a:xfrm>
              <a:off x="1676160" y="3632400"/>
              <a:ext cx="41148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Box 18"/>
            <p:cNvSpPr/>
            <p:nvPr/>
          </p:nvSpPr>
          <p:spPr>
            <a:xfrm>
              <a:off x="6120000" y="3383640"/>
              <a:ext cx="35676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Box 19"/>
            <p:cNvSpPr/>
            <p:nvPr/>
          </p:nvSpPr>
          <p:spPr>
            <a:xfrm>
              <a:off x="3024000" y="2987280"/>
              <a:ext cx="323640" cy="28872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j0157047"/>
          <p:cNvPicPr/>
          <p:nvPr/>
        </p:nvPicPr>
        <p:blipFill>
          <a:blip r:embed="rId1"/>
          <a:stretch/>
        </p:blipFill>
        <p:spPr>
          <a:xfrm>
            <a:off x="5848200" y="1676520"/>
            <a:ext cx="2838600" cy="4800600"/>
          </a:xfrm>
          <a:prstGeom prst="rect">
            <a:avLst/>
          </a:prstGeom>
          <a:ln w="0">
            <a:noFill/>
          </a:ln>
        </p:spPr>
      </p:pic>
      <p:sp>
        <p:nvSpPr>
          <p:cNvPr id="11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0BF9-6D44-4EB4-8403-4EEBBAA320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и срок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655344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спользуйте показ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а до тех пор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 о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тается информативным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Text Box 5"/>
          <p:cNvSpPr/>
          <p:nvPr/>
        </p:nvSpPr>
        <p:spPr>
          <a:xfrm>
            <a:off x="763920" y="4876920"/>
            <a:ext cx="52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Не привязывайтесь 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своим показателям</a:t>
            </a:r>
            <a:r>
              <a:rPr b="1" lang="en-US" sz="3600" spc="-1" strike="noStrike">
                <a:solidFill>
                  <a:srgbClr val="ff000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B72E-D2B6-4390-A85E-6190034EC1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ыводы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Oval 3"/>
          <p:cNvSpPr/>
          <p:nvPr/>
        </p:nvSpPr>
        <p:spPr>
          <a:xfrm>
            <a:off x="114300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4"/>
          <p:cNvSpPr/>
          <p:nvPr/>
        </p:nvSpPr>
        <p:spPr>
          <a:xfrm>
            <a:off x="1371600" y="1523880"/>
            <a:ext cx="28195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5"/>
          <p:cNvSpPr/>
          <p:nvPr/>
        </p:nvSpPr>
        <p:spPr>
          <a:xfrm>
            <a:off x="3352680" y="2895480"/>
            <a:ext cx="20574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6"/>
          <p:cNvSpPr/>
          <p:nvPr/>
        </p:nvSpPr>
        <p:spPr>
          <a:xfrm>
            <a:off x="76320" y="2895480"/>
            <a:ext cx="2743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7"/>
          <p:cNvSpPr/>
          <p:nvPr/>
        </p:nvSpPr>
        <p:spPr>
          <a:xfrm>
            <a:off x="1600200" y="4343400"/>
            <a:ext cx="2895480" cy="2133720"/>
          </a:xfrm>
          <a:custGeom>
            <a:avLst/>
            <a:gdLst>
              <a:gd name="textAreaLeft" fmla="*/ 775080 w 2895480"/>
              <a:gd name="textAreaRight" fmla="*/ 2120400 w 2895480"/>
              <a:gd name="textAreaTop" fmla="*/ 571320 h 2133720"/>
              <a:gd name="textAreaBottom" fmla="*/ 156240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ый этап важен для того, чтобы цикл качества рабо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Picture 11" descr="head"/>
          <p:cNvPicPr/>
          <p:nvPr/>
        </p:nvPicPr>
        <p:blipFill>
          <a:blip r:embed="rId1"/>
          <a:stretch/>
        </p:blipFill>
        <p:spPr>
          <a:xfrm>
            <a:off x="491328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DF77-62A5-4CD6-B741-2DD594A0C8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1629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положения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25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о важ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стоянное улучшение – это центральная часть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4641-AA70-4622-8A7E-EE4E797CC4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160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161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6"/>
            <p:cNvSpPr/>
            <p:nvPr/>
          </p:nvSpPr>
          <p:spPr>
            <a:xfrm>
              <a:off x="1062720" y="3061440"/>
              <a:ext cx="152280" cy="9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24"/>
            <p:cNvSpPr/>
            <p:nvPr/>
          </p:nvSpPr>
          <p:spPr>
            <a:xfrm flipH="1" flipV="1">
              <a:off x="2673000" y="5500440"/>
              <a:ext cx="10080" cy="432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7"/>
            <p:cNvSpPr/>
            <p:nvPr/>
          </p:nvSpPr>
          <p:spPr>
            <a:xfrm>
              <a:off x="4066920" y="1722600"/>
              <a:ext cx="144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7"/>
            <p:cNvSpPr/>
            <p:nvPr/>
          </p:nvSpPr>
          <p:spPr>
            <a:xfrm>
              <a:off x="2616840" y="1862640"/>
              <a:ext cx="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27"/>
            <p:cNvSpPr/>
            <p:nvPr/>
          </p:nvSpPr>
          <p:spPr>
            <a:xfrm>
              <a:off x="1095840" y="1904400"/>
              <a:ext cx="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27"/>
            <p:cNvSpPr/>
            <p:nvPr/>
          </p:nvSpPr>
          <p:spPr>
            <a:xfrm flipH="1">
              <a:off x="816120" y="176616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5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176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177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178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Text Box 71"/>
              <p:cNvSpPr/>
              <p:nvPr/>
            </p:nvSpPr>
            <p:spPr>
              <a:xfrm>
                <a:off x="561600" y="159228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2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183" name="Freeform 73"/>
              <p:cNvSpPr/>
              <p:nvPr/>
            </p:nvSpPr>
            <p:spPr>
              <a:xfrm>
                <a:off x="2078640" y="1223640"/>
                <a:ext cx="1045080" cy="1035360"/>
              </a:xfrm>
              <a:custGeom>
                <a:avLst/>
                <a:gdLst>
                  <a:gd name="textAreaLeft" fmla="*/ 0 w 1045080"/>
                  <a:gd name="textAreaRight" fmla="*/ 1045440 w 10450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Text Box 74"/>
              <p:cNvSpPr/>
              <p:nvPr/>
            </p:nvSpPr>
            <p:spPr>
              <a:xfrm>
                <a:off x="2043360" y="15937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186" name="Group 76"/>
              <p:cNvGrpSpPr/>
              <p:nvPr/>
            </p:nvGrpSpPr>
            <p:grpSpPr>
              <a:xfrm>
                <a:off x="3536280" y="1223640"/>
                <a:ext cx="1048680" cy="1035360"/>
                <a:chOff x="3536280" y="1223640"/>
                <a:chExt cx="1048680" cy="1035360"/>
              </a:xfrm>
            </p:grpSpPr>
            <p:sp>
              <p:nvSpPr>
                <p:cNvPr id="1187" name="Freeform 77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78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9" name="Text Box 79"/>
              <p:cNvSpPr/>
              <p:nvPr/>
            </p:nvSpPr>
            <p:spPr>
              <a:xfrm>
                <a:off x="3495240" y="159624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192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Freeform 31"/>
            <p:cNvSpPr/>
            <p:nvPr/>
          </p:nvSpPr>
          <p:spPr>
            <a:xfrm>
              <a:off x="2086560" y="244368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197" name="Freeform 48"/>
              <p:cNvSpPr/>
              <p:nvPr/>
            </p:nvSpPr>
            <p:spPr>
              <a:xfrm>
                <a:off x="3512520" y="2404800"/>
                <a:ext cx="1047960" cy="1035360"/>
              </a:xfrm>
              <a:custGeom>
                <a:avLst/>
                <a:gdLst>
                  <a:gd name="textAreaLeft" fmla="*/ 0 w 1047960"/>
                  <a:gd name="textAreaRight" fmla="*/ 1048320 w 10479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Text Box 55"/>
              <p:cNvSpPr/>
              <p:nvPr/>
            </p:nvSpPr>
            <p:spPr>
              <a:xfrm>
                <a:off x="3489480" y="273996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9" name="Line 27"/>
            <p:cNvSpPr/>
            <p:nvPr/>
          </p:nvSpPr>
          <p:spPr>
            <a:xfrm flipH="1">
              <a:off x="816120" y="405108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0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201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Text Box 82"/>
              <p:cNvSpPr/>
              <p:nvPr/>
            </p:nvSpPr>
            <p:spPr>
              <a:xfrm>
                <a:off x="541080" y="384948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204" name="Freeform 30"/>
              <p:cNvSpPr/>
              <p:nvPr/>
            </p:nvSpPr>
            <p:spPr>
              <a:xfrm>
                <a:off x="2066040" y="3572280"/>
                <a:ext cx="1045800" cy="1036800"/>
              </a:xfrm>
              <a:custGeom>
                <a:avLst/>
                <a:gdLst>
                  <a:gd name="textAreaLeft" fmla="*/ 0 w 1045800"/>
                  <a:gd name="textAreaRight" fmla="*/ 1046160 w 104580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Text Box 54"/>
              <p:cNvSpPr/>
              <p:nvPr/>
            </p:nvSpPr>
            <p:spPr>
              <a:xfrm>
                <a:off x="2043360" y="378828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6" name="Freeform 50"/>
            <p:cNvSpPr/>
            <p:nvPr/>
          </p:nvSpPr>
          <p:spPr>
            <a:xfrm>
              <a:off x="3513960" y="356616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51"/>
            <p:cNvSpPr/>
            <p:nvPr/>
          </p:nvSpPr>
          <p:spPr>
            <a:xfrm>
              <a:off x="3485160" y="3941640"/>
              <a:ext cx="112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27"/>
            <p:cNvSpPr/>
            <p:nvPr/>
          </p:nvSpPr>
          <p:spPr>
            <a:xfrm flipH="1">
              <a:off x="883800" y="5227920"/>
              <a:ext cx="356148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9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210" name="Freeform 57"/>
              <p:cNvSpPr/>
              <p:nvPr/>
            </p:nvSpPr>
            <p:spPr>
              <a:xfrm>
                <a:off x="60732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213" name="Freeform 34"/>
              <p:cNvSpPr/>
              <p:nvPr/>
            </p:nvSpPr>
            <p:spPr>
              <a:xfrm>
                <a:off x="2084760" y="4686840"/>
                <a:ext cx="1042560" cy="1035720"/>
              </a:xfrm>
              <a:custGeom>
                <a:avLst/>
                <a:gdLst>
                  <a:gd name="textAreaLeft" fmla="*/ 0 w 1042560"/>
                  <a:gd name="textAreaRight" fmla="*/ 1042920 w 104256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216" name="Freeform 63"/>
              <p:cNvSpPr/>
              <p:nvPr/>
            </p:nvSpPr>
            <p:spPr>
              <a:xfrm>
                <a:off x="3528000" y="4746240"/>
                <a:ext cx="1047240" cy="1035360"/>
              </a:xfrm>
              <a:custGeom>
                <a:avLst/>
                <a:gdLst>
                  <a:gd name="textAreaLeft" fmla="*/ 0 w 1047240"/>
                  <a:gd name="textAreaRight" fmla="*/ 1047600 w 10472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Arial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7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8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8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8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8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8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8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821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8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8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833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8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842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845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5BFE-C5E5-44A2-BA6D-310320310A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FA50-AA93-4605-8F13-A60C21024D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1760" y="428400"/>
            <a:ext cx="64422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. </a:t>
            </a: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Эдвардс Деминг</a:t>
            </a:r>
            <a:br>
              <a:rPr sz="44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14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ринципов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35128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охраняйте верность цели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лучшайте постоянно, сегодня и всег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3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54" name="Text Box 5"/>
          <p:cNvSpPr/>
          <p:nvPr/>
        </p:nvSpPr>
        <p:spPr>
          <a:xfrm>
            <a:off x="609480" y="20271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а принципа относятся к постоянному улучше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C63C-1FF0-4BA2-9161-3BE34EA40E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105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икл Деминг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8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3"/>
          <p:cNvSpPr/>
          <p:nvPr/>
        </p:nvSpPr>
        <p:spPr>
          <a:xfrm>
            <a:off x="2514600" y="1295280"/>
            <a:ext cx="4876920" cy="4876920"/>
          </a:xfrm>
          <a:prstGeom prst="ellipse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4"/>
          <p:cNvSpPr/>
          <p:nvPr/>
        </p:nvSpPr>
        <p:spPr>
          <a:xfrm>
            <a:off x="1609560" y="2971800"/>
            <a:ext cx="21243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4"/>
          <p:cNvSpPr/>
          <p:nvPr/>
        </p:nvSpPr>
        <p:spPr>
          <a:xfrm>
            <a:off x="3809880" y="1143000"/>
            <a:ext cx="22719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4"/>
          <p:cNvSpPr/>
          <p:nvPr/>
        </p:nvSpPr>
        <p:spPr>
          <a:xfrm>
            <a:off x="6400800" y="2895480"/>
            <a:ext cx="19051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4"/>
          <p:cNvSpPr/>
          <p:nvPr/>
        </p:nvSpPr>
        <p:spPr>
          <a:xfrm>
            <a:off x="3962520" y="5029200"/>
            <a:ext cx="19047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75"/>
          <p:cNvSpPr/>
          <p:nvPr/>
        </p:nvSpPr>
        <p:spPr>
          <a:xfrm rot="18073200">
            <a:off x="2819520" y="175212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76"/>
          <p:cNvSpPr/>
          <p:nvPr/>
        </p:nvSpPr>
        <p:spPr>
          <a:xfrm rot="13538400">
            <a:off x="2819160" y="502884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77"/>
          <p:cNvSpPr/>
          <p:nvPr/>
        </p:nvSpPr>
        <p:spPr>
          <a:xfrm rot="7687200">
            <a:off x="6476760" y="4952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78"/>
          <p:cNvSpPr/>
          <p:nvPr/>
        </p:nvSpPr>
        <p:spPr>
          <a:xfrm rot="2166600">
            <a:off x="6248160" y="1523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F3F6-BA13-4871-AA28-FFD4CF17E6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остоянное улучшение </a:t>
            </a:r>
            <a:br>
              <a:rPr sz="3600"/>
            </a:b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15189:2007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работ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5"/>
          <p:cNvSpPr/>
          <p:nvPr/>
        </p:nvSpPr>
        <p:spPr>
          <a:xfrm>
            <a:off x="0" y="1600200"/>
            <a:ext cx="4383000" cy="32004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ыяв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тен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7"/>
          <p:cNvSpPr/>
          <p:nvPr/>
        </p:nvSpPr>
        <p:spPr>
          <a:xfrm>
            <a:off x="6039000" y="4800600"/>
            <a:ext cx="257148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анализир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правь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9"/>
          <p:cNvSpPr/>
          <p:nvPr/>
        </p:nvSpPr>
        <p:spPr>
          <a:xfrm rot="20602200">
            <a:off x="2917440" y="1769760"/>
            <a:ext cx="3021120" cy="1143000"/>
          </a:xfrm>
          <a:custGeom>
            <a:avLst/>
            <a:gdLst>
              <a:gd name="textAreaLeft" fmla="*/ 471960 w 3021120"/>
              <a:gd name="textAreaRight" fmla="*/ 2643480 w 30211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Diagram 2"/>
          <p:cNvGrpSpPr/>
          <p:nvPr/>
        </p:nvGrpSpPr>
        <p:grpSpPr>
          <a:xfrm>
            <a:off x="4961880" y="3429000"/>
            <a:ext cx="2649960" cy="2247840"/>
            <a:chOff x="4961880" y="3429000"/>
            <a:chExt cx="2649960" cy="2247840"/>
          </a:xfrm>
        </p:grpSpPr>
        <p:sp>
          <p:nvSpPr>
            <p:cNvPr id="878" name="_s1028"/>
            <p:cNvSpPr/>
            <p:nvPr/>
          </p:nvSpPr>
          <p:spPr>
            <a:xfrm>
              <a:off x="5468040" y="3429000"/>
              <a:ext cx="1636560" cy="1571400"/>
            </a:xfrm>
            <a:custGeom>
              <a:avLst/>
              <a:gdLst>
                <a:gd name="textAreaLeft" fmla="*/ 240120 w 1636560"/>
                <a:gd name="textAreaRight" fmla="*/ 1396440 w 1636560"/>
                <a:gd name="textAreaTop" fmla="*/ 230400 h 1571400"/>
                <a:gd name="textAreaBottom" fmla="*/ 1341000 h 15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_s1029"/>
            <p:cNvSpPr/>
            <p:nvPr/>
          </p:nvSpPr>
          <p:spPr>
            <a:xfrm rot="7200000">
              <a:off x="5724720" y="3767760"/>
              <a:ext cx="1571040" cy="1636560"/>
            </a:xfrm>
            <a:custGeom>
              <a:avLst/>
              <a:gdLst>
                <a:gd name="textAreaLeft" fmla="*/ 230400 w 1571040"/>
                <a:gd name="textAreaRight" fmla="*/ 1340640 w 157104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_s1030"/>
            <p:cNvSpPr/>
            <p:nvPr/>
          </p:nvSpPr>
          <p:spPr>
            <a:xfrm rot="14400000">
              <a:off x="5277240" y="3768840"/>
              <a:ext cx="1571400" cy="1636560"/>
            </a:xfrm>
            <a:custGeom>
              <a:avLst/>
              <a:gdLst>
                <a:gd name="textAreaLeft" fmla="*/ 230400 w 1571400"/>
                <a:gd name="textAreaRight" fmla="*/ 1341000 w 157140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_s1031"/>
            <p:cNvSpPr/>
            <p:nvPr/>
          </p:nvSpPr>
          <p:spPr>
            <a:xfrm>
              <a:off x="673452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_s1032"/>
            <p:cNvSpPr/>
            <p:nvPr/>
          </p:nvSpPr>
          <p:spPr>
            <a:xfrm>
              <a:off x="5958000" y="500796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033"/>
            <p:cNvSpPr/>
            <p:nvPr/>
          </p:nvSpPr>
          <p:spPr>
            <a:xfrm>
              <a:off x="518148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AutoShape 19"/>
          <p:cNvSpPr/>
          <p:nvPr/>
        </p:nvSpPr>
        <p:spPr>
          <a:xfrm flipH="1" rot="16200000">
            <a:off x="7657920" y="3009600"/>
            <a:ext cx="1066680" cy="533520"/>
          </a:xfrm>
          <a:custGeom>
            <a:avLst/>
            <a:gdLst>
              <a:gd name="textAreaLeft" fmla="*/ 166320 w 1066680"/>
              <a:gd name="textAreaRight" fmla="*/ 933120 w 10666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2BF3-2101-4A49-84B7-46F3EB3E69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радиционные средства для улучш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0520"/>
            <a:ext cx="83059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утренние ауди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яя оценка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ий аудит и аккреди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анализ руководств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зможности для улучш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73994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тслеживание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Footer Placeholder 4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A558-26EC-4261-9529-9C0FF87D59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0"/>
          <p:cNvSpPr/>
          <p:nvPr/>
        </p:nvSpPr>
        <p:spPr>
          <a:xfrm>
            <a:off x="380880" y="1143000"/>
            <a:ext cx="8229600" cy="1143000"/>
          </a:xfrm>
          <a:prstGeom prst="bevel">
            <a:avLst>
              <a:gd name="adj" fmla="val 125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План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31"/>
          <p:cNvSpPr/>
          <p:nvPr/>
        </p:nvSpPr>
        <p:spPr>
          <a:xfrm>
            <a:off x="152280" y="2743200"/>
            <a:ext cx="211608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2"/>
          <p:cNvSpPr/>
          <p:nvPr/>
        </p:nvSpPr>
        <p:spPr>
          <a:xfrm>
            <a:off x="2465280" y="2743200"/>
            <a:ext cx="19814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34"/>
          <p:cNvSpPr/>
          <p:nvPr/>
        </p:nvSpPr>
        <p:spPr>
          <a:xfrm>
            <a:off x="6858000" y="27432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35"/>
          <p:cNvSpPr/>
          <p:nvPr/>
        </p:nvSpPr>
        <p:spPr>
          <a:xfrm>
            <a:off x="2255760" y="5257800"/>
            <a:ext cx="4525920" cy="11430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Цель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6"/>
          <p:cNvSpPr/>
          <p:nvPr/>
        </p:nvSpPr>
        <p:spPr>
          <a:xfrm>
            <a:off x="83808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7"/>
          <p:cNvSpPr/>
          <p:nvPr/>
        </p:nvSpPr>
        <p:spPr>
          <a:xfrm flipH="1">
            <a:off x="632412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8"/>
          <p:cNvSpPr/>
          <p:nvPr/>
        </p:nvSpPr>
        <p:spPr>
          <a:xfrm flipH="1">
            <a:off x="5486400" y="3581280"/>
            <a:ext cx="53352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9"/>
          <p:cNvSpPr/>
          <p:nvPr/>
        </p:nvSpPr>
        <p:spPr>
          <a:xfrm>
            <a:off x="3200400" y="358128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40"/>
          <p:cNvSpPr/>
          <p:nvPr/>
        </p:nvSpPr>
        <p:spPr>
          <a:xfrm>
            <a:off x="2895480" y="4038480"/>
            <a:ext cx="3429000" cy="914400"/>
          </a:xfrm>
          <a:prstGeom prst="hexagon">
            <a:avLst>
              <a:gd name="adj" fmla="val 93750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зможности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1"/>
          <p:cNvSpPr/>
          <p:nvPr/>
        </p:nvSpPr>
        <p:spPr>
          <a:xfrm>
            <a:off x="4267080" y="49528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42"/>
          <p:cNvSpPr/>
          <p:nvPr/>
        </p:nvSpPr>
        <p:spPr>
          <a:xfrm>
            <a:off x="312408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43"/>
          <p:cNvSpPr/>
          <p:nvPr/>
        </p:nvSpPr>
        <p:spPr>
          <a:xfrm>
            <a:off x="533412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44"/>
          <p:cNvSpPr/>
          <p:nvPr/>
        </p:nvSpPr>
        <p:spPr>
          <a:xfrm>
            <a:off x="9144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5"/>
          <p:cNvSpPr/>
          <p:nvPr/>
        </p:nvSpPr>
        <p:spPr>
          <a:xfrm>
            <a:off x="75438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Content Placeholder 187458"/>
          <p:cNvGrpSpPr/>
          <p:nvPr/>
        </p:nvGrpSpPr>
        <p:grpSpPr>
          <a:xfrm>
            <a:off x="1520640" y="4267080"/>
            <a:ext cx="1988280" cy="1652760"/>
            <a:chOff x="1520640" y="4267080"/>
            <a:chExt cx="1988280" cy="1652760"/>
          </a:xfrm>
        </p:grpSpPr>
        <p:sp>
          <p:nvSpPr>
            <p:cNvPr id="909" name="_s2052"/>
            <p:cNvSpPr/>
            <p:nvPr/>
          </p:nvSpPr>
          <p:spPr>
            <a:xfrm>
              <a:off x="1893960" y="4267080"/>
              <a:ext cx="1241280" cy="114696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68120 h 1146960"/>
                <a:gd name="textAreaBottom" fmla="*/ 978840 h 114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_s2053"/>
            <p:cNvSpPr/>
            <p:nvPr/>
          </p:nvSpPr>
          <p:spPr>
            <a:xfrm rot="7200000">
              <a:off x="2111040" y="449064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_s2054"/>
            <p:cNvSpPr/>
            <p:nvPr/>
          </p:nvSpPr>
          <p:spPr>
            <a:xfrm rot="14400000">
              <a:off x="1771200" y="449208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_s2055"/>
            <p:cNvSpPr/>
            <p:nvPr/>
          </p:nvSpPr>
          <p:spPr>
            <a:xfrm>
              <a:off x="285444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_s2056"/>
            <p:cNvSpPr/>
            <p:nvPr/>
          </p:nvSpPr>
          <p:spPr>
            <a:xfrm>
              <a:off x="2265480" y="541980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_s2057"/>
            <p:cNvSpPr/>
            <p:nvPr/>
          </p:nvSpPr>
          <p:spPr>
            <a:xfrm>
              <a:off x="167652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Content Placeholder 187448"/>
          <p:cNvGrpSpPr/>
          <p:nvPr/>
        </p:nvGrpSpPr>
        <p:grpSpPr>
          <a:xfrm>
            <a:off x="5947560" y="4343400"/>
            <a:ext cx="1897200" cy="1576080"/>
            <a:chOff x="5947560" y="4343400"/>
            <a:chExt cx="1897200" cy="1576080"/>
          </a:xfrm>
        </p:grpSpPr>
        <p:sp>
          <p:nvSpPr>
            <p:cNvPr id="916" name="_s2060"/>
            <p:cNvSpPr/>
            <p:nvPr/>
          </p:nvSpPr>
          <p:spPr>
            <a:xfrm>
              <a:off x="6303240" y="4343400"/>
              <a:ext cx="1184760" cy="1094040"/>
            </a:xfrm>
            <a:custGeom>
              <a:avLst/>
              <a:gdLst>
                <a:gd name="textAreaLeft" fmla="*/ 173520 w 1184760"/>
                <a:gd name="textAreaRight" fmla="*/ 1011240 w 1184760"/>
                <a:gd name="textAreaTop" fmla="*/ 160560 h 1094040"/>
                <a:gd name="textAreaBottom" fmla="*/ 933480 h 10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_s2061"/>
            <p:cNvSpPr/>
            <p:nvPr/>
          </p:nvSpPr>
          <p:spPr>
            <a:xfrm rot="7200000">
              <a:off x="6511320" y="4556160"/>
              <a:ext cx="1093680" cy="1185120"/>
            </a:xfrm>
            <a:custGeom>
              <a:avLst/>
              <a:gdLst>
                <a:gd name="textAreaLeft" fmla="*/ 160200 w 1093680"/>
                <a:gd name="textAreaRight" fmla="*/ 933480 w 1093680"/>
                <a:gd name="textAreaTop" fmla="*/ 173880 h 1185120"/>
                <a:gd name="textAreaBottom" fmla="*/ 1011240 h 118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_s2062"/>
            <p:cNvSpPr/>
            <p:nvPr/>
          </p:nvSpPr>
          <p:spPr>
            <a:xfrm rot="14400000">
              <a:off x="6186600" y="4556880"/>
              <a:ext cx="1094040" cy="1184760"/>
            </a:xfrm>
            <a:custGeom>
              <a:avLst/>
              <a:gdLst>
                <a:gd name="textAreaLeft" fmla="*/ 160560 w 1094040"/>
                <a:gd name="textAreaRight" fmla="*/ 933480 w 1094040"/>
                <a:gd name="textAreaTop" fmla="*/ 173520 h 1184760"/>
                <a:gd name="textAreaBottom" fmla="*/ 1011240 h 118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_s2063"/>
            <p:cNvSpPr/>
            <p:nvPr/>
          </p:nvSpPr>
          <p:spPr>
            <a:xfrm>
              <a:off x="722052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_s2064"/>
            <p:cNvSpPr/>
            <p:nvPr/>
          </p:nvSpPr>
          <p:spPr>
            <a:xfrm>
              <a:off x="6658200" y="544248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_s2065"/>
            <p:cNvSpPr/>
            <p:nvPr/>
          </p:nvSpPr>
          <p:spPr>
            <a:xfrm>
              <a:off x="609588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AutoShape 76"/>
          <p:cNvSpPr/>
          <p:nvPr/>
        </p:nvSpPr>
        <p:spPr>
          <a:xfrm>
            <a:off x="4641840" y="2743200"/>
            <a:ext cx="20192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8"/>
          <p:cNvSpPr/>
          <p:nvPr/>
        </p:nvSpPr>
        <p:spPr>
          <a:xfrm>
            <a:off x="13716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78"/>
          <p:cNvSpPr/>
          <p:nvPr/>
        </p:nvSpPr>
        <p:spPr>
          <a:xfrm>
            <a:off x="3600360" y="2411280"/>
            <a:ext cx="175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8"/>
          <p:cNvSpPr/>
          <p:nvPr/>
        </p:nvSpPr>
        <p:spPr>
          <a:xfrm>
            <a:off x="57960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9T13:55:49Z</dcterms:modified>
  <cp:revision>222</cp:revision>
  <dc:subject/>
  <dc:title>Slide 1</dc:title>
</cp:coreProperties>
</file>